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9DA55-58F5-4A91-8A6C-C42C8D7C7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4AF18-946A-412C-B507-96A8BF42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02902-3001-4716-B768-5BA7FD45B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5CD66-71A8-4815-9F7A-B2E7BBA89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63FD-000F-48A9-B469-FC2651DF2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580A-3855-4B6D-A873-18072107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FB20-3E74-4D56-BFD4-2D442B31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AC841-C432-4F24-87AA-427912CC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93D6-E91F-43F4-8DC9-83B97116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61F6-A31C-437B-AC4E-596B29A7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70FD1-24DB-4BD8-9AD2-CE9FD236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355C0-C5D4-4FD5-964B-C1B373BB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F756F-06CF-4B49-AF91-677FD592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BE54-778B-43DA-824F-43F7B0CC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ABB8-0DAC-4B30-BA2A-C10D2675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2527-E089-47CB-891B-C7792099B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A1F2-1D69-43C6-8926-1CD537F77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00C64-D3CB-4CF1-A8C5-FC186E56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CC1AD-A3D2-44F9-A93B-8B975B19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D8C72-1F72-4482-B3BB-B64FD2AE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02918-68E2-41FD-8D8F-9AEF2A7C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07424-E9AA-4A6B-B31E-FAEB2235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8222C-AEF7-41C5-ACB8-A629DD00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E68C0-8244-4AD8-916E-8F6D6E12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F8CF-521D-4152-AED0-656DBA41A9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537c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9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5656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537c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9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5656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10858-398E-45B7-949F-899FAFF8EA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Run-ons and Comma Splices</a:t>
            </a:r>
            <a:endParaRPr b="1" lang="en-US" sz="6000" spc="-1" strike="noStrike">
              <a:solidFill>
                <a:srgbClr val="dfdfe9"/>
              </a:solidFill>
              <a:latin typeface="Garamond"/>
            </a:endParaRPr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Add a semicolon.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second way to correct run-ons and comma splices is to use a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micol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[;]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to join the two sentence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a semicolon only when the two sentences express closely related idea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semicolon can be used only where a period could also be used; the words on each side of the semicolon must be able to stand alone as a complete sentenc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not capitalize the word that follows a semicolon unless it is the name of a specific person, place, or thing that is usually capitalize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xampl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un-on: Bernard wanted to break this habit after all, why couldn’t a chair be used as a chair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rrected: Bernard wanted to break this habit; after all, why couldn’t a chair be used as a chair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How would you add a semicolon to correct this sentence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his astonishment, everyone he asked agreed they said they would clear everything off their chair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) To his astonishment; everyone he asked agreed they said they would clear everything off their chair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) To his astonishment, everyone he asked agreed; they said they would clear everything off their chair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) To his astonishment, everyone he asked agreed they said; they would clear everything off their chair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How would you add a semicolon to correct this sentence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his astonishment, everyone he asked agreed they said they would clear everything off their chair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) To his astonishment; everyone he asked agreed they said they would clear everything off their chair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B) To his astonishment, everyone he asked agreed; they said they would clear everything off their chair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) To his astonishment, everyone he asked agreed they said; they would clear everything off their chair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Add a comma and a coordinating conjunction.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third way to correct run-ons is to add a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m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d a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ordinating conjunc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nd, but, or, nor, so, for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 Think of a coordinating conjunction as a link that joins independent clauses to form one senten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comma splice already has a comma, so you need to add only a conjunc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fore choosing a conjunction, read the independent clauses aloud to see which word best expresses the relationship between the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xampl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ma splice: Eventually, he got to everyone in the office, one by one, the chairs were cleared of clutt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rrected: Eventually, he got to everyone in the office, and one by one, the chairs were cleared of clutt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How would you add a comma and a coordinating conjunction to correct this sentence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rnard’s accomplishment was short-lived it wasn’t long before each of those chairs began to develop a fresh pile of books all over again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) Bernard’s accomplishment was short-lived, and it wasn’t long before each of those chairs began to develop a fresh pile of books all over again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) Bernard’s accomplishment was short-lived it wasn’t long, and before each of those chairs began to develop a fresh pile of books all over agai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) Bernard’s accomplishment was short-lived, or it wasn’t long before each of those chairs began to develop a fresh pile of books all over agai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How would you add a comma and a coordinating conjunction to correct this sentence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rnard’s accomplishment was short-lived it wasn’t long before each of those chairs began to develop a fresh pile of books all over agai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A) Bernard’s accomplishment was short-lived, and it wasn’t long before each of those chairs began to develop a fresh pile of books all over again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) Bernard’s accomplishment was short-lived it wasn’t long, and before each of those chairs began to develop a fresh pile of books all over agai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) Bernard’s accomplishment was short-lived, or it wasn’t long before each of those chairs began to develop a fresh pile of books all over agai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Add a dependent word.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fourth way to correct run-ons and comma splices is to make one of the complete sentences a dependent clause by adding a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ependent wor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such a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fter, because, before, if, though, even though, unless,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whe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oose the dependent word (or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bordinating conjuncti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 that best expresses the relationship between the two claus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xampl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un-on: Sophia thought they got the watchdog their house was robbed recentl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rrected: Sophia thought they got the watchdog because their house was robbed recentl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What is a run-on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un-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two complete sentences (also called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dependent claus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 joined without any punctuat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ample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rnard loved his part-time job at the local newspaper there was one problem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How would you add a dependent word to correct this sentence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ving a dog in the neighborhood probably made it safer for everyone that nonstop barking was intolerabl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) Having a dog in the neighborhood probably made it safer for everyone, that nonstop barking was intolerabl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) Having a dog in the neighborhood probably made it safer for everyone, even though that nonstop barking was intolerabl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) Having a dog in the neighborhood probably made it safer for everyone, and that nonstop barking was intolerab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How would you add a dependent word to correct this sentence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ving a dog in the neighborhood probably made it safer for everyone that nonstop barking was intolerabl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) Having a dog in the neighborhood probably made it safer for everyone, that nonstop barking was intolerabl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B) Having a dog in the neighborhood probably made it safer for everyone, even though that nonstop barking was intolerabl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) Having a dog in the neighborhood probably made it safer for everyone, and that nonstop barking was intolerab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e one of the four ways to correct this comma splice:</a:t>
            </a: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thony was careful with money, his friends weren’t always so financially savv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Anthony was careful with money, and his friends weren’t always so financially savv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Though Anthony was careful with money, his friends weren’t always so financially savv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Anthony was careful with money, so his friends weren’t always so financially savv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e one of the four ways to correct this comma splice:</a:t>
            </a: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thony was careful with money, his friends weren’t always so financially savvy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) Anthony was careful with money, and his friends weren’t always so financially savvy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B) Though Anthony was careful with money, his friends weren’t always so financially savvy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) Anthony was careful with money, so his friends weren’t always so financially savvy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e one of the four ways to correct this comma splice: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effrey always seemed to be asking someone for a loan, Anthony assumed this didn’t embarrass Jeffrey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) Jeffrey always seemed to be asking someone for a loan, Anthony assumed, this didn’t embarrass Jeffrey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) Jeffrey always seemed to be asking someone for a loan, and Anthony assumed this didn’t embarrass Jeffrey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) Jeffrey always seemed to be asking someone for a loan Anthony assumed this didn’t embarrass Jeffrey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e one of the four ways to correct this comma splice: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effrey always seemed to be asking someone for a loan, Anthony assumed this didn’t embarrass Jeffrey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) Jeffrey always seemed to be asking someone for a loan, Anthony assumed, this didn’t embarrass Jeffrey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B) Jeffrey always seemed to be asking someone for a loan, and Anthony assumed this didn’t embarrass Jeffrey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) Jeffrey always seemed to be asking someone for a loan Anthony assumed this didn’t embarrass Jeffrey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e one of the four ways to correct this comma splice: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wever, Jeffrey always repaid the money he borrowed from Anthony, he repaid it even after his work promotion fell through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) However, Jeffrey always repaid the money he borrowed from Anthony he repaid it; even after his work promotion fell through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) However, Jeffrey always repaid the money he borrowed from Anthony he repaid it even after his work promotion fell through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) However, Jeffrey always repaid the money he borrowed from Anthony; he repaid it even after his work promotion fell through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e one of the four ways to correct this comma splice: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owever, Jeffrey always repaid the money he borrowed from Anthony, he repaid it even after his work promotion fell through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NSWER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) However, Jeffrey always repaid the money he borrowed from Anthony he repaid it; even after his work promotion fell through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) However, Jeffrey always repaid the money he borrowed from Anthony he repaid it even after his work promotion fell through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C) However, Jeffrey always repaid the money he borrowed from Anthony; he repaid it even after his work promotion fell through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8229600" cy="1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e one of the four ways to correct this comma splice: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early every week, Lenny spent nearly his whole paycheck, he liked to buy things like expensive cameras, fine clothes, and designer shoe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) Nearly every week, Lenny spent nearly his whole paycheck, or he liked to buy things like expensive cameras, fine clothes, and designer shoe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) Nearly every week, Lenny spent nearly his whole paycheck, he liked to buy things like expensive cameras. Fine clothes, and designer shoe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) Nearly every week, Lenny spent nearly his whole paycheck. He liked to buy things like expensive cameras, fine clothes, and designer shoe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8229600" cy="1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e one of the four ways to correct this comma splice: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early every week, Lenny spent nearly his whole paycheck, he liked to buy things like expensive cameras, fine clothes, and designer shoe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) Nearly every week, Lenny spent nearly his whole paycheck, or he liked to buy things like expensive cameras, fine clothes, and designer shoe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) Nearly every week, Lenny spent nearly his whole paycheck, he liked to buy things like expensive cameras. Fine clothes, and designer shoe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C) Nearly every week, Lenny spent nearly his whole paycheck. He liked to buy things like expensive cameras, fine clothes, and designer shoe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What is a comma splice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ma splic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two complete sentences (or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dependent claus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 joined by only a comm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arly all the people who worked there had the same habit, it was a habit that had always annoyed Bernard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e one of the four ways to correct this comma splice: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 for himself, Anthony had a few tricks he had learned for saving money, one of them was throwing all of his small change into a jar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) As for himself, Anthony had a few tricks he had learned for saving money though one of them was throwing all of his small change into a jar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) As for himself, Anthony had a few tricks he had learned for saving money one of them was throwing all of his small change into a jar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) As for himself, Anthony had a few tricks he had learned for saving money; one of them was throwing all of his small change into a jar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e one of the four ways to correct this comma splice: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s for himself, Anthony had a few tricks he had learned for saving money, one of them was throwing all of his small change into a ja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NSWER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) As for himself, Anthony had a few tricks he had learned for saving money though one of them was throwing all of his small change into a jar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) As for himself, Anthony had a few tricks he had learned for saving money one of them was throwing all of his small change into a jar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C) As for himself, Anthony had a few tricks he had learned for saving money; one of them was throwing all of his small change into a jar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How can you identify run-ons and comma splices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d each of the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dependent claus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n a sente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eck to see how they are joined. Is there any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unctuati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between them? If not, you may be looking at a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un-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there is a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m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between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dependent claus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look for a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ordinating conjuncti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lik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nd, but, for, so, or, ye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. If there is none, you may be looking at a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ma splic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How can you correct run-ons and comma splices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re are four ways to correct a run-on or a comma splic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d a period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d a semicol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d a comma and a coordinating conjun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d a dependent wor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Add a period.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 can split run-ons and comma splices into two separate sentences by adding a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rio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between them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fter adding the period, capitalize the letter that begins the new sentenc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read your new sentences to make sure they each contain a subject, a verb, and a complete though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xampl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un-on: Each person had a chair next to his or her desk for visitors their visitors were not able to sit in many of those chair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rrected: Each person had a chair next to his or her desk for visitors. Their visitors were not able to sit in many of those chair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How would you add a period to correct this sentence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reason was very simple, most people stacked books, papers, and other stuff on their chair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) The reason was very simple, most people. Stacked books, papers, and other stuff on their chair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) The reason was very simple, most people stacked books, papers, and other stuff. On their chair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) The reason was very simple. Most people stacked books, papers, and other stuff on their chair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How would you add a period to correct this sentence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reason was very simple, most people stacked books, papers, and other stuff on their chair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) The reason was very simple, most people. Stacked books, papers, and other stuff on their chair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) The reason was very simple, most people stacked books, papers, and other stuff. On their chair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C) The reason was very simple. Most people stacked books, papers, and other stuff on their chair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17:53:45Z</dcterms:created>
  <dc:creator>BSM</dc:creator>
  <dc:description/>
  <dc:language>en-US</dc:language>
  <cp:lastModifiedBy>BSM</cp:lastModifiedBy>
  <dcterms:modified xsi:type="dcterms:W3CDTF">2008-02-20T14:18:17Z</dcterms:modified>
  <cp:revision>89</cp:revision>
  <dc:subject/>
  <dc:title>Run-Ons and Comma Splices</dc:title>
</cp:coreProperties>
</file>